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557-FA58-455C-AA74-B5BBBEE0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B7C-C386-422B-8F25-3B8CE973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129-2F6D-4C10-A58C-4F699DE7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909-02B6-4EDD-B7B6-129803B1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A61-8534-4D94-B4A5-2F76093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0DC-BFB6-429F-9E8D-64E0EE00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A73-3CDA-425D-864C-E1F6C43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695-6E54-4802-9628-B2B95B9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AAF-5B4D-4113-B07F-DFAECF35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85A-1C1F-4874-8409-022A3C0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DEE-71FD-445D-A0E7-B3C6F89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750-98E5-4C64-BA30-46B5118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B48E-96E3-4FA7-AB3C-E43F768C9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ze and Evaluate Plan for Frontloading Activity, Get Feedback and Suggestions for Essential Qs and Culminating Performance Task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necting to Our Experienc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ship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is Situational:  “Any human activity—whether internal or external—is in fact allowed, encouraged, shaped and constrained by the particular situation in which it occurs” (Activity Theor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Would You Characterize Your Internship Situ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tor teacher (relationship, procedures, theories about teaching and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Control” and “Can’t Contro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Ou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96240" cy="127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’t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1600200" y="762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ing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Frontloading Activit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 Sh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plan for frontload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heck She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 ideas/possibilities for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 2 in Planning Proc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idence will show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--will the knowledge and skills they perform transfer to new and authentic situations in their l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Concept—doing what the experts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forms for demonstrat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rics—understanding and performance (products and proc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Culminating Project/Summative Performanc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Notice?  What Does it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ns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2:43:42Z</dcterms:created>
  <dc:creator>Phil Bear</dc:creator>
  <dc:description/>
  <dc:language>en-US</dc:language>
  <cp:lastModifiedBy>Phil Bear</cp:lastModifiedBy>
  <dcterms:modified xsi:type="dcterms:W3CDTF">2011-02-22T22:34:46Z</dcterms:modified>
  <cp:revision>6</cp:revision>
  <dc:subject/>
  <dc:title>Our Goals for Today: Analyze and Evaluate Plan for Frontloading Activity, Get Feedback and Suggestions for Essential Qs and Culminating Performance Task Ideas</dc:title>
</cp:coreProperties>
</file>